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8A2-1861-4EC6-A446-1D7B801E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2E4-BEEC-4C82-A7D6-84BAA597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EBE-C113-4FFF-86DA-4C32328C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84D-915C-4D9A-8D77-6513E99C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CA2-3BF6-4A42-B569-2163FD020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94A-D2EF-4068-897E-E4FB0DB0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9749-9E83-45C1-9613-0A39F3BF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ED6-FE76-4CA2-8F5C-9EADE63A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664-F693-40E8-AAD4-5A5FC2F2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6E2-B97B-4138-9135-135997C1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A58-8805-488D-B731-F1F729246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296-4DE3-45E3-B509-6BC2581D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4E5-406D-4BA4-967A-FFB86298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985-32B4-464C-8EFD-D81B954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0FF-7126-47C3-AA82-6A8AB2A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271-05F8-4FB7-9E0F-97FC59C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8AA-2156-4C68-91AB-B32D6233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BED-71EB-4096-8E8C-CBC9B92D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0B7-A93B-4F03-AFEC-F4757F9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F14-AB89-4583-84C6-47B258D9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004-40A3-4C94-83C1-AE0D0C9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467-94BA-4C12-8C6F-B8782F5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D75-43AB-45D9-8E6F-6DAAEBA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B5E-133B-4EC1-A932-3E23121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36E-4BC7-49AE-9D71-8B0C541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25F-6D9D-4FB7-A355-27F2217F2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>
            <a:hlinkClick r:id="rId1" action="ppaction://hlinksldjump"/>
          </p:cNvPr>
          <p:cNvSpPr/>
          <p:nvPr/>
        </p:nvSpPr>
        <p:spPr>
          <a:xfrm>
            <a:off x="6248520" y="502920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10-25T14:34:26Z</dcterms:modified>
  <cp:revision>26</cp:revision>
  <dc:subject/>
  <dc:title>No Slide Title</dc:title>
</cp:coreProperties>
</file>